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FF5-5091-4CD0-BAB7-71074BD6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A6F-A8EB-42AE-8B3A-728015A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1D2-66E6-472A-9489-9CDAC5F1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5D0-4D20-454A-837F-A5BA6B5D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2D9-80D3-43C1-8702-139039A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2C0-058D-41F8-9C3F-D96A51F3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AFD-56C8-4DEA-8F99-D0DBE7C5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074-A623-42D4-BBD0-777EEFE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7B7-E094-4C1D-A2E4-2F2F018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4F5-4E7F-4B68-B3D7-8043FE0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4B6-938C-48F1-90D3-DE1B697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D1A-1B34-493E-8180-39F88D9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3264-5F62-4C3E-B141-E3762C48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47640" y="1989000"/>
            <a:ext cx="56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aps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3816360" cy="1739880"/>
          </a:xfrm>
          <a:prstGeom prst="rect">
            <a:avLst/>
          </a:prstGeom>
          <a:solidFill>
            <a:srgbClr val="65b9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agram shows how a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ulse crosses the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call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synap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between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700280"/>
            <a:ext cx="3816360" cy="2157120"/>
          </a:xfrm>
          <a:prstGeom prst="rect">
            <a:avLst/>
          </a:prstGeom>
          <a:solidFill>
            <a:srgbClr val="92c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reaches the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along one of the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). It is carried across called dend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napse to the next cel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mical transmit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573360"/>
            <a:ext cx="3817800" cy="243144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drugs interfere with th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mitter chemicals are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OW THEY M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YOU R 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765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47480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522600" cy="34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476280"/>
            <a:ext cx="792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apses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56000" y="2428920"/>
            <a:ext cx="4464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9:38Z</dcterms:created>
  <dc:creator>sthalliwellp</dc:creator>
  <dc:description/>
  <dc:language>en-US</dc:language>
  <cp:lastModifiedBy>sthalliwellp</cp:lastModifiedBy>
  <dcterms:modified xsi:type="dcterms:W3CDTF">2006-07-18T11:00:45Z</dcterms:modified>
  <cp:revision>2</cp:revision>
  <dc:subject/>
  <dc:title>Synapses</dc:title>
</cp:coreProperties>
</file>